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77700-64BC-4B56-BC6B-B26133420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280E8-CA8D-4695-BE59-1EB7A03BB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7DBF4-0B27-4823-8164-6F94136D7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F85D-A8E1-4B94-993A-B3ABB2B82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1B659-D81F-44E1-A98C-EC2AE43BF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F7AC3-FA01-41F0-A83D-F36D457A0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4C807-FED3-4E0F-9228-42C4102DA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80521-65AE-4E48-8BC3-FD3BC58C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04CD17-619B-407F-A59D-5609CC902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810C5-9C4B-4DD3-8729-ED101CF65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DE9EA-4EDF-4652-8AB0-8DF8720FC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9B5E2-18E0-4E4C-AB22-9930F239A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63826B-A19B-4196-9877-2EA9543D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CF23B-668F-438E-9AFA-4908AEC0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158B9-68B4-451C-A855-328A8D35C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27D5E-D45C-444F-B512-1DCF769A3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55CD8-6028-4D9B-B30C-0C5944365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5B0E0-5E2D-4BF6-9148-8D7136988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64FB-9768-4613-9F19-4A24B94AC1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6EC08-8518-4B18-8EC7-7AED8C9F7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48F0-3D59-43B8-96C3-37AB1B40E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39DE-D9F6-4CFA-BD10-35B0F0D98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03DCC-EFA6-4DBC-A902-EE8AB5B9F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C53E-F4B8-411A-B141-4702918EC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29D46-BF16-4D09-99B1-74C601354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95D11-F5A6-4BF3-8246-5947AA930D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8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원과 교원단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복지와 교육의 본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밀그램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예일대학교 심리학자 조교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tanley Milgram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나치의 학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기충격 실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5 : 35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필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적 동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집단의 이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부상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신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익보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 향상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 이상의 실현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특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은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공성과 공익성을 띠는 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합적 성격을 띤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의단체가 아닌 법정단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단체의 역할과 기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소속감과 안정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을 대변하고 권익을 보호 증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자질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 경제적 지위 신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정책의 형성과 결정 과정에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복지와 혜택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청소년 복지와 사회의 건전한 발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한국의 교원단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단체총연합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국교직원노동조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교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총연합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단 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논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11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2T05:54:22Z</dcterms:modified>
  <cp:revision>11</cp:revision>
  <dc:subject/>
  <dc:title>제 6장 교사교육 </dc:title>
</cp:coreProperties>
</file>